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DBB7-B4D6-47EC-9FF3-10853FBB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91F-E333-44E6-B01D-6E6C0839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581-6750-43BD-B14A-C48FEBA4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DEC6-786D-42E3-9B47-8854BA69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DE7A-B531-40CB-B9EA-80280217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E6D6-199E-4F72-8006-D0EC1DF0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E992-6863-4AB9-89EC-60AE7745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0AD7-DF7B-4945-BB06-1D6B498E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539A-945C-4B10-A79B-5F830D30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1829-4AFF-40CF-AD99-2FDA26AB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BA9C-6DA5-446C-89F1-DD579ACF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F54E-3746-4481-AC64-D745BE35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50D2-30EE-4784-9AB6-2CE2DA23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A7FC-E4DC-429B-9327-3C0B1333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3D1B-B652-4AD0-986F-677C696A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E89B-2A93-41CC-9E5E-CAB1D1DC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E00B-4279-4DB8-BA42-56A6C0D7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1DC-A9CB-495F-A0DC-23E58B88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411-8D6D-4901-BC2B-1F407DC2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F694-D3FB-4235-B6EE-E832DC35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7F2A-A30D-490B-9C5F-7C0D988B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95C-E5B2-4452-9832-F79589E6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650-96BC-4C4A-94A4-EBA74011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53F-29FF-48AE-B605-0A8DA4FF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150C-7114-4E38-A405-B0A0A127E52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D36F-3CE6-4BAD-8823-63CA92A34C6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lib.uconn.edu/help/askHomer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ib.uconn.edu/using/tutorials/" TargetMode="External"/><Relationship Id="rId2" Type="http://schemas.openxmlformats.org/officeDocument/2006/relationships/hyperlink" Target="http://www.lib.uconn.edu/using/finding/guides/elecref.htm" TargetMode="External"/><Relationship Id="rId3" Type="http://schemas.openxmlformats.org/officeDocument/2006/relationships/hyperlink" Target="http://homerweb.lib.uconn.edu/" TargetMode="External"/><Relationship Id="rId4" Type="http://schemas.openxmlformats.org/officeDocument/2006/relationships/hyperlink" Target="http://www.lib.uconn.edu/online/ejournals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jstor.org.ezproxy.lib.uconn.edu/action/showPublication?journalCode=yalefrenstud" TargetMode="External"/><Relationship Id="rId2" Type="http://schemas.openxmlformats.org/officeDocument/2006/relationships/hyperlink" Target="http://www.jstor.org.ezproxy.lib.uconn.edu/action/showPublisher?publisherCode=yale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hslmc2008.wikispaces.com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conn.edu/" TargetMode="External"/><Relationship Id="rId2" Type="http://schemas.openxmlformats.org/officeDocument/2006/relationships/hyperlink" Target="http://www.lib.uconn.edu/" TargetMode="External"/><Relationship Id="rId3" Type="http://schemas.openxmlformats.org/officeDocument/2006/relationships/hyperlink" Target="http://classguides.lib.uconn.edu/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ibrary Orient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.C.E – Spanish - 2009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PANISH GUIDE –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TED:  tabs to resources and Specialty Librarian on righ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3944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 to Specialized Resourc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HOMER, Book catalo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Journ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Articles and Datab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se the Resources Prepared for you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TABS to limit or sel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Articles and Databases helps  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nd databases that have articles, streaming media, and more in the following subjects..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Subjects or Keywo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for SPECIFIC if you have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results are too limited broaden 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NLINE or In-Person HELP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 are stumped about something, 10 a.m. to 5 p.m., there is help in an online resource called “askHomer Live” which provides you the ability to ask reference questions and get answers in “real time”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 to 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lib.uconn.edu/help/askHom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CLICK on the Link to your UCONN Specialty Reference Librarian (highlighted on another pag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COME TO YOUR VERY OWN HIGH SCHOOL LIBRARIAN: Mrs. Fitzgeral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f you want tutorials for Library or UCONN Resources in general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line Library Introduction/Orientation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lib.uconn.edu/using/tutorials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cess to Electronic Information Resources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lib.uconn.edu/using/finding/guides/elecref.htm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mer, the online Catalog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homerweb.lib.uconn.e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earch Database Locator: www.lib.uconn.edu/online/datab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Journals – Locate Electronic Journals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www.lib.uconn.edu/online/ejourn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09760" y="3578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anish Resour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53452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MPLE: SPAN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esent-Day Spanish Poetr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ha Zardoy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ale French Studi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No. 21, Poetry Since the Liberation (1958), pp. 145-153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ublished by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Yale University Pre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86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atures of Note to help you alo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FT MARGIN has links to related subjec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ulti-tasking or saving for later (features you can have it read to you through an MP3 Download if you are going to be on a bus or riding in a ca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nt articles or Email them to store them electronical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ookmark things: example: Bookmark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py the Bookmark URL and paste it into another document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http://find.galegroup.com/gps/infomark.do?contentSet=IAC-Documents&amp;docType=IAC&amp;type=retrieve&amp;tabID=T007&amp;prodId=IPS&amp;docId=A206170769&amp;userGroupName=s1461&amp;version=1.0&amp;source=gale&amp;infoPage=infoMarkP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eded to access Information and Technology Services through UCON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ID: eight digit network identifi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ssword:   (you create after entering your activation code for the first ti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pecial Online features to help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: Dictionary defini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61996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42840" y="519120"/>
            <a:ext cx="72583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5880" y="910080"/>
            <a:ext cx="84657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ther Resources of Interest/Use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EX. 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Platero Y Y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by Juan Ramon Jimenez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arch People mentioned in article: 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. Juan Ramon Jimenez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438280" y="1925640"/>
            <a:ext cx="64771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0720" y="333720"/>
            <a:ext cx="847692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ome Primary Source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uch as Newspapers available both through ICONN and UCON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895320"/>
            <a:ext cx="86774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62080" y="186120"/>
            <a:ext cx="83142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panish Poetry and Juan Ramon Jimenez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23960" y="800280"/>
            <a:ext cx="8381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arches may yield only Abstrac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3026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arch Government Docu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 Docu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ine Re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vernment websites may have spanish information :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ttp://www.odl.state.ok.us/usinfo/topiclists/us-spanish.ht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62080" y="186120"/>
            <a:ext cx="839052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General to specific in Span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295200"/>
            <a:ext cx="73152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Spanish Resources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HS Library has CUMBRE in Encycloped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 international newspapers are available in ICONN in span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 audio books are available in span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HS Library has some Spanish Literature boo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BRARY RESOURCE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ooks found through Online Catalog called HOMER and WORLDCA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gazines and Periodicals both in print or online or in libraries or through inter-library lo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ic resources  including electronic books, journals, newspapers and 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deral Docu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fo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ps &amp; Aerial Photograph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deos, CDs, DVDs, Music Scores/Record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RAP UP  and T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 &amp; 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 Library Website for li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 a Librarian if nee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 your teacher for other termin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rrific opportunity … great resources… use th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to Star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y UCONN Library Home P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www.lib.uconn.edu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are simple or advance 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ide on Books, Journals or Medi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ore op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ngs to remember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borrow from UCONN, do not let anything become overdue, it will be a $95. charge for anything over 28 days and your UCONN account will be flagg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ine resources are available also through RHS Subscriptions and State of Connecticut Subscriptions which can be found by going to the RHS Library WIKISPACES PAGE a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rhslmc2008.wikispaces.com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763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CONN WEBSIT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CONN HOME PAGE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uconn.e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brary Page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lib.uconn.e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 Guides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classguides.lib.uconn.e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: Finding Spanish Gu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76312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480" y="834120"/>
            <a:ext cx="6636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panish Resources from “Subject Guides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836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9:39:36Z</dcterms:created>
  <dc:creator>fitzgeraldj</dc:creator>
  <dc:description/>
  <dc:language>en-US</dc:language>
  <cp:lastModifiedBy>fitzgeraldj</cp:lastModifiedBy>
  <dcterms:modified xsi:type="dcterms:W3CDTF">2009-09-21T20:13:53Z</dcterms:modified>
  <cp:revision>13</cp:revision>
  <dc:subject/>
  <dc:title>Library Orientation</dc:title>
</cp:coreProperties>
</file>